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B88-1CE2-4AEF-8C98-0491610F2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33B0-2F0B-40A1-B6B9-77548CDB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by Michael J. Renner, Ph.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lides ©2002 Prentice Hall Psychology Publis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4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.04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.04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9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10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ame concept as demonstration on p161 of 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is here to provide a blank white field for seeing afterimages generated by staring at the previous slide for 60 seconds. Delete this slide before print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taken from Figure 3.23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.07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27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ssin, S. (200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ird edition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igure on p 150,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e, C., &amp; Tavris, C. (2002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itation to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Upper Saddle River, NJ: Prentice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5A3-50E0-4F3D-95DF-F0350CE0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B84-A2F6-4B34-906B-2F8D70AF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80F-D88D-492C-9603-5D893758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3DF-1B35-489A-9B78-EB29B468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07DE-F82D-4224-BAFE-A0136CD3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7F3A-F296-48FA-BAD6-ED56002E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4F2B-627A-41AC-A598-3747B1D4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7E4F-391C-495E-8BB5-5931B5FF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8047-4F8C-4733-9D37-39E3876F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1D78-70EF-4F08-8AD5-55A49D54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8246-9C5A-4F26-8128-43DAFCC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726-CB73-4CF4-9AD7-CF1777DB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610A-799B-4885-A42A-4C2242AC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AAE7-85E9-4374-AA23-B387FD6F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1AD-C2FD-41B1-8F5D-43EA9067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B590-7E8D-415D-8C0B-17DDB2A4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90B9-8DD2-4B73-BCB1-7FFF5465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AC3-A8F4-4116-A73B-08C7454C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F5E-7D8C-4F29-B07D-C215B772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440-6A9A-44AF-81EA-F77A849C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8B0-942F-4783-9121-CBDF08E8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BE3-5062-4B03-9B52-88DFCDA6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DB3-F124-42CD-AA3B-90FF462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61B-7C1A-4F92-A55B-60475CF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368-DD85-401C-B9CD-B2B85D22B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DF4A-7CDE-4873-934C-96AF61938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ation and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ory Adapt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sory Adap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reduction or disappearance of sensory responsiveness that occurs when stimulation is unchanging or repetiti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sory Depriv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absence of normal levels of sensory stim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ory Overlo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ctive Atten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focusing of attention on selected aspects of the environment and the blocking out of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e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ye on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the Visual System is Not a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e See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ing the Visu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We Se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dimension of visual experience specified by color names and related to the wavelength of l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ur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ividness or purity of color; the dimension of visual experience related to the complexity of light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ightn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Lightness and luminance; the dimension of visual experience related to the amount of light emitted from or reflected by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 Eye on the Worl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Neural tissue lining the back of the eyeball’s interior, which contains the receptors for visio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od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Visual receptors that respond to dim ligh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e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Visual receptors involved in color vision. Most humans have 3 types of con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ark Adaptatio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The process by which visual receptors become maximally sensitive to ligh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uctures of the Human Ey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uctures of the Reti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63640" y="1674720"/>
            <a:ext cx="7442280" cy="47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Visual System is Not a Camer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visual processing is done in the b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cortical cells respond to lines in specific orientations (e.g. horizon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cells in the cortex respond to other shapes (e.g., bulls-eyes, spirals, fa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ature-detect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Cells in the visual cortex that are sensitive to specific features of the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We See Col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chromatic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nent Process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ichromatic The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. Young (1802) &amp; H.  von Helmholtz (1852) both proposed that the eye detects 3 primary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, blue, &amp; g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colors can be derived by combining these th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7600" t="0" r="6400" b="0"/>
          <a:stretch/>
        </p:blipFill>
        <p:spPr>
          <a:xfrm>
            <a:off x="5091120" y="2057400"/>
            <a:ext cx="4052880" cy="35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ation and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ensational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S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ceptual Powers: Origins and Infl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zzles of 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05520" y="2057400"/>
            <a:ext cx="342900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ponent-Process The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peting theory of color vision, which assumes that the visual system treats pairs of colors as opposing or antagonist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nent-Process cells are inhibited by a color, and have a burst of activity when it is remo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57800" y="2209680"/>
            <a:ext cx="3124080" cy="1143000"/>
            <a:chOff x="5257800" y="2209680"/>
            <a:chExt cx="3124080" cy="1143000"/>
          </a:xfrm>
        </p:grpSpPr>
        <p:sp>
          <p:nvSpPr>
            <p:cNvPr id="157" name=""/>
            <p:cNvSpPr/>
            <p:nvPr/>
          </p:nvSpPr>
          <p:spPr>
            <a:xfrm>
              <a:off x="5257800" y="2209680"/>
              <a:ext cx="1143000" cy="1143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8880" y="2209680"/>
              <a:ext cx="1143000" cy="11430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2522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57800" y="4952880"/>
            <a:ext cx="3124080" cy="1143000"/>
            <a:chOff x="5257800" y="4952880"/>
            <a:chExt cx="3124080" cy="1143000"/>
          </a:xfrm>
        </p:grpSpPr>
        <p:sp>
          <p:nvSpPr>
            <p:cNvPr id="161" name=""/>
            <p:cNvSpPr/>
            <p:nvPr/>
          </p:nvSpPr>
          <p:spPr>
            <a:xfrm>
              <a:off x="5257800" y="4952880"/>
              <a:ext cx="11430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4952880"/>
              <a:ext cx="1143000" cy="11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77120" y="5265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57800" y="3581280"/>
            <a:ext cx="3124080" cy="1143000"/>
            <a:chOff x="5257800" y="3581280"/>
            <a:chExt cx="3124080" cy="1143000"/>
          </a:xfrm>
        </p:grpSpPr>
        <p:sp>
          <p:nvSpPr>
            <p:cNvPr id="165" name=""/>
            <p:cNvSpPr/>
            <p:nvPr/>
          </p:nvSpPr>
          <p:spPr>
            <a:xfrm>
              <a:off x="5257800" y="3581280"/>
              <a:ext cx="114300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3581280"/>
              <a:ext cx="1143000" cy="11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3894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fterimag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205" t="3618" r="3205" b="2412"/>
          <a:stretch/>
        </p:blipFill>
        <p:spPr>
          <a:xfrm>
            <a:off x="1487520" y="1981080"/>
            <a:ext cx="61675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structing the Visual Worl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th and Distance 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Constancies: When Seeing is Belie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Illusions: When Seeing is Mis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stalt Princi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stalt principles describe the brain’s organization of sensory building blocks into meaningful units and patte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xim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52092" t="42001" r="12821" b="0"/>
          <a:stretch/>
        </p:blipFill>
        <p:spPr>
          <a:xfrm>
            <a:off x="6858000" y="2895480"/>
            <a:ext cx="1682640" cy="1857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9616" t="0" r="60105" b="60002"/>
          <a:stretch/>
        </p:blipFill>
        <p:spPr>
          <a:xfrm>
            <a:off x="5105520" y="3327480"/>
            <a:ext cx="1614240" cy="1425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56098" t="0" r="17364" b="60002"/>
          <a:stretch/>
        </p:blipFill>
        <p:spPr>
          <a:xfrm>
            <a:off x="5303880" y="4851360"/>
            <a:ext cx="1415880" cy="1427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rcRect l="9616" t="44005" r="49416" b="6000"/>
          <a:stretch/>
        </p:blipFill>
        <p:spPr>
          <a:xfrm>
            <a:off x="6858000" y="4851360"/>
            <a:ext cx="1955880" cy="1595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257800" y="335268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9718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8769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8769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pth and Distance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nocular C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isual cues to depth or distance that require the use of both ey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rg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Turning inward of the eyes, which occurs when they focus on a nearby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tinal Dispa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The slight difference in lateral separation between two objects as seen by the left eye and the right e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ocular C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isual cues to depth or distance that can be used by one eye al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ual Constanc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ccurate perception of objects as stable or unchanged despite changes in the sensory patterns they produ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pe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ion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ness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const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ual Illu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962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ions are valuable in understanding perception because they are systematic err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lusions provide hints about perceptual 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Muller-Lyer illusion (above) we tend to perceive the line on the right as slightly longer than the one on the le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94200" cy="23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oling the Ey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ts in (a) are the same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agonal lines in (b) are parall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create a “floating fingertip frankfurter” by holding hands as shown, 5-10” in front of 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24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ear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e H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ar on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ing the Auditory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nsation and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detection of physical energy emitted or reflected by physical objects; it occurs when energy in the external environment or the body stimulates receptors in the sense org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process by which the brain organizes and interprets sensory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We Hea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udn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dimension of auditory experience related to the intensity of a pressure w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it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dimension of auditory experience related to the frequency of a pressure w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mb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ronounced “TAM-bur”): The distinguishing quality of sound; the dimension of auditory experience related to the complexity of the pressure w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 Ear on the Worl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792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Sen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te: Savory Sens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ell: The Sense of Sc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s of the 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ystery of P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vironment Wi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ste: Savory Sens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pilla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Knoblike elevations on the tongue, containing the taste buds (Singular: papill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ste bu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Nests of taste-receptor cel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10840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ell: The Sense of Sc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631120" cy="2614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borne chemical molecules enter the nose and circulate through the nasal ca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pors can also enter through the mouth and pass into nasal ca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ptors on the roof of the nasal cavity detect these molec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ate-Control Theory of P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 of pain depends (in part) on whether the pain impulse gets past neurological “gate” in the spinal cord and thus reaches the b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48320" y="2440080"/>
            <a:ext cx="380988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matrix Theory of P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ory that the matrix of neurons in the brain is capable of generating pain (and other sensations) in the absence of signals from sensory ner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48320" y="2336760"/>
            <a:ext cx="3809880" cy="340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Environment With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nesthe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sense of body position and movement of body parts; also called kinesthes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sense of bal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ircular Cana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Sense organs in the inner ear, which contribute to equilibrium by responding to rotation of the h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erceptual Powers: Origins and Influe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Abilities and Perceptual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ological and Cultural Influences on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Visual Cliff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ised by Eleanor Gibson and Richard Walk to test depth 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ss surface, with checkerboard underneath at different he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ual illusion of a cli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by can’t f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m stands across the g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ies show increased attention over deep side at age 2 months, but aren’t afraid until about the age they can craw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600" t="0" r="1600" b="0"/>
          <a:stretch/>
        </p:blipFill>
        <p:spPr>
          <a:xfrm>
            <a:off x="5137200" y="2514600"/>
            <a:ext cx="394164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mbiguous Fig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ed surface can be either the outside front surface or the inside back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not simultaneously be bo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in can interpret the ambiguous cues two different 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10080" y="2133720"/>
            <a:ext cx="2742840" cy="3123720"/>
            <a:chOff x="5410080" y="2133720"/>
            <a:chExt cx="2742840" cy="3123720"/>
          </a:xfrm>
        </p:grpSpPr>
        <p:sp>
          <p:nvSpPr>
            <p:cNvPr id="116" name=""/>
            <p:cNvSpPr/>
            <p:nvPr/>
          </p:nvSpPr>
          <p:spPr>
            <a:xfrm>
              <a:off x="5410080" y="2891160"/>
              <a:ext cx="2286000" cy="2366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67280" y="2133720"/>
              <a:ext cx="2285640" cy="236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410080" y="4500360"/>
              <a:ext cx="457200" cy="75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410080" y="2133720"/>
              <a:ext cx="457200" cy="75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695720" y="2133720"/>
              <a:ext cx="456840" cy="75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695720" y="4500360"/>
              <a:ext cx="456840" cy="75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sychological and Cultural Influences on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tual S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A habitual way of perceiving, based on expect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uzzles of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liminal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sensory Perception: Reality or Illus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trasensory Perce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24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sensory Perception (ESP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ility to perceive something without ordinary sensory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as not been scientifically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types of ES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pathy – Mind-to-mind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irvoyance – Perception of remote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ognition – Ability to see future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spcBef>
                <a:spcPts val="876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r Sensational Sen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iddle of Separate Sens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ing the S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 Adap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 Over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Riddle of Separate Sens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se Recept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Specialized neurons that convert physical energy from the environment or the body into electrical energy that can be transmitted as nerve impulses to the b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ctrine of Specific Nerve Energ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Different sensory modalities exist because signals received by the sense organs stimulate different nerve pathways leading to different areas of the b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asuring the Sen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lute Thres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mallest quantity of physical energy that can be reliably detected by an ob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 Thres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mallest difference in stimulation that can be reliably detected by an observer when two stimuli are compared; also called Just Noticeable Difference (JND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solute Sensory Threshol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on: A single candle flame from 30 miles on a dark, clear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ring: The tick of a watch from 20 feet in total 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ell: 1 drop of perfume in a 3-room apar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: The wing of a bee on your cheek, dropped from 1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te: 1 tsp. Sugar in 2 gal.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ignal Detection The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981080"/>
          <a:ext cx="7772400" cy="3794400"/>
        </p:xfrm>
        <a:graphic>
          <a:graphicData uri="http://schemas.openxmlformats.org/drawingml/2006/table">
            <a:tbl>
              <a:tblPr/>
              <a:tblGrid>
                <a:gridCol w="1752480"/>
                <a:gridCol w="2971800"/>
                <a:gridCol w="3048120"/>
              </a:tblGrid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imulus is 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imulus is Ab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onse: “Presen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Hi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False Alarm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onse: “Absen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Mis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Correct Rejec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2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6:04:01Z</dcterms:created>
  <dc:creator>Michael J. Renner</dc:creator>
  <dc:description/>
  <dc:language>en-US</dc:language>
  <cp:lastModifiedBy>jwitt</cp:lastModifiedBy>
  <dcterms:modified xsi:type="dcterms:W3CDTF">2003-11-03T21:01:06Z</dcterms:modified>
  <cp:revision>23</cp:revision>
  <dc:subject/>
  <dc:title>Sensation and Perception</dc:title>
</cp:coreProperties>
</file>